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6F02-7F35-484A-A480-010C09C6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7EE-77EE-40E5-B77E-9BACF10A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CF4C-A246-45CA-A868-5574C329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73DD-659B-40EA-8541-3ABB8877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06C6-2C76-454F-8D02-1BB6E046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7849-8230-47C3-9CBA-9BF29806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C94E-893C-49C9-A16A-DFDE03D0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697-AAD7-416D-9111-375A4682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523-6543-484E-80E9-A06D24EF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A74-9A1C-40B5-BC1B-EE7E5114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8DB-F023-4AFD-B41C-2F2B87F2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2BE-534F-4BC8-B2A0-6DDDDD21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49C3-C428-482B-AF67-D9DA75D7A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lase de espano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go y fern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mes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i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ime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2282760"/>
            <a:ext cx="403848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Dias La Se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erc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e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r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9880" y="1600200"/>
            <a:ext cx="4800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Conti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e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52680" y="1676520"/>
            <a:ext cx="556272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ami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u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33920" y="1600200"/>
            <a:ext cx="4343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Es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8:55:28Z</dcterms:created>
  <dc:creator>WSFCS Workstation</dc:creator>
  <dc:description/>
  <dc:language>en-US</dc:language>
  <cp:lastModifiedBy>WSFCS Workstation</cp:lastModifiedBy>
  <dcterms:modified xsi:type="dcterms:W3CDTF">2010-04-27T19:00:58Z</dcterms:modified>
  <cp:revision>2</cp:revision>
  <dc:subject/>
  <dc:title>La clase de espanol </dc:title>
</cp:coreProperties>
</file>